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68C-5EC8-4FD7-9513-ED2CAD0E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D0F-749C-4259-959C-B8969DFD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AC3-FEA0-4065-8687-89C54580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F6D-7DE3-4279-83DA-B7D42189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498-A0B9-4FFF-9536-E6D7444A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F79-4F06-434A-8DB8-5D39CBFA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C0E-C09E-4F01-A23C-C6CC1A4E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D34-ED7C-4362-B771-C3FD56DB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1CD-E1D9-4F7F-984D-F1DB8269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EBB-641F-4664-8961-5D1296E1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DF8-9D71-452C-8788-5DAF90E4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2A41-6351-41F1-8B4E-0BE5A6DD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B016-FDEB-4679-80C9-9C0B7A888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O DE LA PROFESIÓN MÉD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625760"/>
            <a:ext cx="7129440" cy="37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UNIÓN ASPROMEL-E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RICIO MARTÍNEZ JIMÉN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VOZ DEL FORO DE LA PROFE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RID, 26-28 NOVIEMBRE DE 200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0RO DE LA PROFESIÓN MÉD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1413000"/>
            <a:ext cx="71294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E JULIO DEL 200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a y constitución 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Foro de la Profesión Mé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Foro, como Mesa Permanente 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Representación, Estudio, Participació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Información y Negociación de los Méd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de el reconocimiento del médico com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poseedor del conocimiento médico y depositari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de la confianza del ciudad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 SER: LA MESA DE LOS MEDICOS PARA LOS MEDICOS Y CON LOS MED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LONIA ¿Grado o Más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1413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es habl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blando de méd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19280" y="1413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es habl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blando de méd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1413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es habl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blando de méd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1413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es habl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blando de méd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1413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es habl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blando de méd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1413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es habl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O DE LA PROFESIÓN MÉD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590840"/>
            <a:ext cx="7056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MÉD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su trabajo habitual ejerce su prof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capital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capital de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actor principal del acto mé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prototipo de profesional social: prima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el interés de los pacientes por encima 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cualquier o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O DE LA PROFESIÓN MÉD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1341360"/>
            <a:ext cx="7129800" cy="45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POSIBLE HABLAR DE PROFESION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imiento específ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ódigo é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ones profes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bajo basado en el cono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bajo valioso para la soci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acidad de autorregula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ción de confia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76360" y="1413000"/>
            <a:ext cx="7199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POSIBLE HABLAR DE PROFESION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ÉDICO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or principal del acto mé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ipo de profesional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onocimiento y la confianza deben ser l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gar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prime el interés de los pacientes p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encima de cualquier otro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41300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O DE LA PROFESIÓN MÉD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O DE LA PROFESIÓN MÉD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1542960"/>
            <a:ext cx="67690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MÉDICO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EDOR DEL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ARIO Y CUSTODIO DE L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CONFIANZA DEL CIUDAD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O DE LA PROFESIÓN MÉD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542960"/>
            <a:ext cx="6769080" cy="29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CIÓN DEL CONSEJO DE LA PROF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ÉDICA DE CATALU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EVA FORMA DE REPRESENTACÓN MÉD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EVO MODELO DE RELACIÓN 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EVO PROFESIONALISMO MÉ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O DE LA PROFESIÓN MÉD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1739880"/>
            <a:ext cx="712944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O PERMANENTE D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ICIP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UERDO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O DE LA PROFESIÓN MÉD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1739880"/>
            <a:ext cx="7129440" cy="48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INSTITUCIONES COMPONEN EL F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EJO GENERAL DE COLEGIOS OFICIALES DE MÉD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CONFEDERACIÓN NACIONAL DE DECANOS DE MÉDIC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FEDERACIÓN DE ASOCIACIONES MÉDICAS DE ESPAÑ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CONSEJO NACIONAL DE ESPECIALIDADES EN CIENC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LA SAL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CONFEDERACIÓN ESTÁTAL DE SINDICATOS MÉD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CONSEJO ESTATAL DE ESTUDIANTES DE MÉDIC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O DE LA PROFESIÓN MÉD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1413000"/>
            <a:ext cx="705636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O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perar la autoridad clí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perar el prestigi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perar el placer de ser y ejercer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méd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guir la representación y participación 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conocimiento en los órganos de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guir un nuevo modelo de relaci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instituc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3:22:35Z</dcterms:created>
  <dc:creator>mangel</dc:creator>
  <dc:description/>
  <dc:language>en-US</dc:language>
  <cp:lastModifiedBy>patricio</cp:lastModifiedBy>
  <dcterms:modified xsi:type="dcterms:W3CDTF">2009-11-24T11:23:42Z</dcterms:modified>
  <cp:revision>33</cp:revision>
  <dc:subject/>
  <dc:title>Diapositiva 1</dc:title>
</cp:coreProperties>
</file>